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A7AE-43AC-4B7C-A580-7E9FECF5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189E-2AE0-47EC-B1B6-69380C90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CE45-D6E7-4E8A-A970-E469E540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BA56-275A-4AE3-88A2-29E40430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035B-3C4E-4B14-B964-ED6ADD2B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5BAA-8058-4495-80EE-8708EA5E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49CC-CFA9-4FE4-B098-6965D289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C74A-D338-4D21-AB27-582F605C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D444-B355-4F15-8CFA-37C02F2B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D14B-CC4B-4EFB-892D-8FF516F8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D17D-FC8B-407F-AD09-C7488A3B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C155-9CFD-4050-8EF3-65E92D3A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09D4-411E-4C1D-AA8A-6D90ECAD0AB3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90 Blaho tam, kde sľuby svät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Blaho tam, kde sľuby sväté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samo nebo požehná,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kde dve srdcia v jedno späté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pojí láska úprimná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Šťastní tí, čo miesto ven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dnosť láske dávajú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laho tam, kde muž i žen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Božiu pomoc dúf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tam šťastie prevé bý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sa s Pánom radiť chcú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a slnko za mrak skrý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modlitbe vždy pokľakn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tam láska čistá blaž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Pán všetko spravu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osou zhora srdcia vlaž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ť, pokoj dar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dá svoje požehnani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ým, čo vierou prosia o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die nad nimi neprestaj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ich verným sprievodc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vy svojho Spasiteľ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svadbu dnes pozvit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ezpečne s ním až do cieľ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estou lásky dôjdete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18:29:04Z</dcterms:modified>
  <cp:revision>92</cp:revision>
  <dc:subject/>
  <dc:title>Je veľký náš Pán, on slávy je Kráľ Nech do všetkých strán  spev vrúcnych znie chvál.</dc:title>
</cp:coreProperties>
</file>